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F483-DFFB-4610-A46E-B815E0571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4708-D1EC-4167-8CAD-4FCA5EFD6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42FC-B002-40C2-BE29-770D07D63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BE96-494F-44C9-8AD0-B2719CFFB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A115F-CCA1-40F8-AEAB-CBBC2821E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DFA1B-D4BE-4E58-9924-A01BAD7B0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13BE1-03AF-4747-90E1-6D7E2EA98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D0BC8-8FFD-445A-B2A0-46D50E8DA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B85FD-1DA6-4C92-BF86-A3892EBD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67282-5317-4069-B2E5-4BEDCE9FC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EC309-BCC2-43DB-B741-757465B6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101D-A8C2-47AC-BC29-FBDB7D8F2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E3B34-528A-4BA2-94BC-CFCA550E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AC43B-941A-41E9-95A1-D6769B62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E27F8-95D9-4D50-91F9-CD9E8844E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94249-FBF7-409B-B934-84893A9A6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EF4A3-C4BF-44DB-A3C8-9FA093B3B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52D85-3EC4-4677-AE27-2E5DF6816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A04AD-F474-4701-9CD8-6A4AF681E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A1FC8-520B-49AF-8B2D-9D4255122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6BF47-32AF-4BD5-A26B-C182B6D02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EACD0-5922-4EE4-884D-CEAC414A4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9E17-D8A2-416F-87A5-336350155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8C811-C15A-43A8-A29C-1D93F333F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DE586-134F-411E-8E41-02B5C58C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D0D0D-C7D6-4999-A8AF-0069EFD3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5E997-7301-4BE2-AD20-59983835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5DA29-2168-48DB-AABC-2323BDF6B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120D4-3FC9-4F2E-9EF6-8AB36AA2F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B4BC8-AB7E-4E3E-AB2C-CEE42BFB7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35F40-6C5F-454D-9653-E71CFEB0A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9B8F3-A8FD-4A96-8C2D-569FF7C34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46CC3-C5B6-469E-A54D-C5CC20C30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B332-F92D-4BBD-AA96-5BD85119D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868A7-514D-4F18-8F1E-B83287BC8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53DDF-F474-42E0-B5C6-526AFC790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A18E7-2EC5-4CD3-940C-78433FE9F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18CBA-9F6B-45FB-A401-B198DD86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83500-AFD6-45F7-B095-58571BE4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CD600-632C-4CD2-994F-FBF32F9C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0DFAB-792E-4B15-9111-72AC9DF87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4F438-DDF9-4333-8D6B-C045C66B4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CDA71-F6A7-4D0C-9C96-1F8E074AE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9E08D-FDEA-48EE-9A75-843091A47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691E-8E0F-43B2-9268-33E76007C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56F1D-5FC3-4609-BAF8-B781C5C90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EE12E-5004-4F0E-BAD4-9A645FA78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52EC6-A762-415A-9166-C728F178D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01EBB-3B53-4F11-B373-5C29794D1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95185-D835-4B14-B592-CF1C9571E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D4290-A2A6-484F-ADDB-3DFD2EC7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557D6-447F-4F4A-A831-8EA62591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8349C-710E-4441-9A0A-9E9D7E12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7C09F-8628-4AFF-934C-59ED6F4AD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9516C-AF79-42D8-88A3-37F432F43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9CC1-4DE7-47D3-8D15-6C04E6D67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FF038-3323-4D5D-BB66-BF641C859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55F4C-54EE-4E5A-970C-CF9EAC5E0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22F9BE-4E4E-43B3-95E6-1A7BF84E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D7E83-D478-4A06-8FB9-FF5D3FCD6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AF2B3C-F105-47E5-8967-6E429967F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E2198-B2E5-4C53-9292-EC0785321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440BB-BF64-413F-AA10-258ED40C4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48B5F-95A4-4975-8779-C4C2F05D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EAB5E8-8519-476F-96F4-F86A40F5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DCD63-905A-4032-B42C-761CB97A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BE81-E2D1-4E9C-B3FA-2FB5D54C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88CA7-FE72-4187-A3BB-4A86A412F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D8144-3B21-4BA6-9E88-DD88A9293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2055A9-D1DE-48E8-BACD-50EA7088F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AD80E-CE60-4B2D-8FA5-C6793EED6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1D7EF-D07D-4B76-9941-019092160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AC2E50-309A-4F3E-92F1-5873597F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54B5EC-9838-4AF6-8794-10CC98FB8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D0D62-6996-4F25-A244-A4ECE33AE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91E09-506D-42DA-9020-293D74C5B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4DD413-7DD8-4807-AFD6-F9215A5B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C857-52BA-4C7E-A39D-993B15EF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47373-A86E-4B21-9B3D-B930A8FF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49D97-84CC-4A82-9375-1DD839C5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549B0E-4C74-44A0-B2C3-7C0B6EE2B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DE00F-2F34-4079-BD04-A0BE48B94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EF917-B05B-4B1E-9732-622BC7992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CEDF01-D328-45FC-BD5E-193CE2B15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BF2220-551F-4DDA-A653-769AC66D0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1F79A2-B48E-4491-808A-3D6E23224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CA18FD-767C-4C25-8670-90A7AD158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F7E251-D918-4F35-8BBE-37D760A3B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A1FE-5767-4C03-824C-DAA29DD4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F3AC8A-5535-49E2-AD51-6ED0792DB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A2F63-27F8-4136-A756-F6ED2060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3CAE51-F1E5-43C0-AB16-B687F61B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522D98-0C5F-418A-A43C-19395029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10A722-DAAC-457E-A17F-626B8D38B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C72544-F3B2-4113-AD5D-20712752F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1469D5-69A3-47D7-9C66-8D6AAADAE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7FC87-637B-4F58-83E5-C75E5A407F85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25F38-EE88-4ACD-8A27-F3225D99F0AB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D7FA0-7003-4E03-8CBE-38AAB106F260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25949-3E9E-42BC-8332-6EFE4738DF07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8FFDB-21E5-4DCE-8BA6-E1E6B1E0D47C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Isosceles Triangle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4B0EC-CDA5-49F5-B918-C25D6228C07E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Rectangle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7249-97F6-4329-8070-7D719C989843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E8E9C-2629-498F-AAE9-22AE4A6B1D7E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The Follow Up Letter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Going the extra mil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General Thought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fter applying, you might choose to follow up with the college regarding your applica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most important thing you can do in this letter is be sincere. Insincerity or coldness will not bode well with the college admissions office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s should be written in block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Hard-copy, handwritten, or e-mail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Hard-copy is the most formal and most appropriat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Handwritten is personal and works if you design like a thank you to a specific person after visiting the school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n individual who gives a tou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omeone you met briefl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E-mail is informal but it can be sufficient if that has been your main means of contact with a given admissions representativ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urpose of the letter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how appreciation for the college taking time to consider you for admiss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eiterate your interest in attending the colleg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eview or remind about your strengths (without sounding preachy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emonstrate that you have good manners and know how to be thankfu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llow up with any potential information that may have been left out of application materia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inal thought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Keep it short and sweet – this doesn’t need to be lo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ime fram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Write within two days of interviewing with a school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Write within a week of school receiving application material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ake it personal – try to address to a specific pers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e sincer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4T00:31:01Z</dcterms:created>
  <dc:creator>Administrator</dc:creator>
  <dc:description/>
  <dc:language>en-US</dc:language>
  <cp:lastModifiedBy>Administrator</cp:lastModifiedBy>
  <dcterms:modified xsi:type="dcterms:W3CDTF">2011-09-14T00:44:04Z</dcterms:modified>
  <cp:revision>4</cp:revision>
  <dc:subject/>
  <dc:title>The Follow Up Letter</dc:title>
</cp:coreProperties>
</file>